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10080625" cy="7559675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099200" cy="10234440"/>
          </a:xfrm>
          <a:custGeom>
            <a:avLst/>
            <a:gdLst>
              <a:gd name="textAreaLeft" fmla="*/ 360 w 7099200"/>
              <a:gd name="textAreaRight" fmla="*/ 7098840 w 709920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39">
                <a:moveTo>
                  <a:pt x="4" y="0"/>
                </a:moveTo>
                <a:arcTo wR="4" hR="4" stAng="16200000" swAng="-5400000"/>
                <a:lnTo>
                  <a:pt x="0" y="31135"/>
                </a:lnTo>
                <a:arcTo wR="4" hR="4" stAng="10800000" swAng="-5400000"/>
                <a:lnTo>
                  <a:pt x="21596" y="3113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3560" bIns="435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7099200" cy="10234440"/>
          </a:xfrm>
          <a:custGeom>
            <a:avLst/>
            <a:gdLst>
              <a:gd name="textAreaLeft" fmla="*/ 360 w 7099200"/>
              <a:gd name="textAreaRight" fmla="*/ 7098840 w 709920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39">
                <a:moveTo>
                  <a:pt x="4" y="0"/>
                </a:moveTo>
                <a:arcTo wR="4" hR="4" stAng="16200000" swAng="-5400000"/>
                <a:lnTo>
                  <a:pt x="0" y="31135"/>
                </a:lnTo>
                <a:arcTo wR="4" hR="4" stAng="10800000" swAng="-5400000"/>
                <a:lnTo>
                  <a:pt x="21596" y="3113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3560" bIns="435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AutoShape 3"/>
          <p:cNvSpPr/>
          <p:nvPr/>
        </p:nvSpPr>
        <p:spPr>
          <a:xfrm>
            <a:off x="0" y="0"/>
            <a:ext cx="7099200" cy="10234440"/>
          </a:xfrm>
          <a:custGeom>
            <a:avLst/>
            <a:gdLst>
              <a:gd name="textAreaLeft" fmla="*/ 360 w 7099200"/>
              <a:gd name="textAreaRight" fmla="*/ 7098840 w 709920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39">
                <a:moveTo>
                  <a:pt x="4" y="0"/>
                </a:moveTo>
                <a:arcTo wR="4" hR="4" stAng="16200000" swAng="-5400000"/>
                <a:lnTo>
                  <a:pt x="0" y="31135"/>
                </a:lnTo>
                <a:arcTo wR="4" hR="4" stAng="10800000" swAng="-5400000"/>
                <a:lnTo>
                  <a:pt x="21596" y="3113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3560" bIns="435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4"/>
          <p:cNvSpPr/>
          <p:nvPr/>
        </p:nvSpPr>
        <p:spPr>
          <a:xfrm>
            <a:off x="0" y="0"/>
            <a:ext cx="7099200" cy="10234440"/>
          </a:xfrm>
          <a:custGeom>
            <a:avLst/>
            <a:gdLst>
              <a:gd name="textAreaLeft" fmla="*/ 360 w 7099200"/>
              <a:gd name="textAreaRight" fmla="*/ 7098840 w 709920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39">
                <a:moveTo>
                  <a:pt x="4" y="0"/>
                </a:moveTo>
                <a:arcTo wR="4" hR="4" stAng="16200000" swAng="-5400000"/>
                <a:lnTo>
                  <a:pt x="0" y="31135"/>
                </a:lnTo>
                <a:arcTo wR="4" hR="4" stAng="10800000" swAng="-5400000"/>
                <a:lnTo>
                  <a:pt x="21596" y="3113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3560" bIns="435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5"/>
          <p:cNvSpPr/>
          <p:nvPr/>
        </p:nvSpPr>
        <p:spPr>
          <a:xfrm>
            <a:off x="0" y="0"/>
            <a:ext cx="7099200" cy="10234440"/>
          </a:xfrm>
          <a:custGeom>
            <a:avLst/>
            <a:gdLst>
              <a:gd name="textAreaLeft" fmla="*/ 360 w 7099200"/>
              <a:gd name="textAreaRight" fmla="*/ 7098840 w 709920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39">
                <a:moveTo>
                  <a:pt x="4" y="0"/>
                </a:moveTo>
                <a:arcTo wR="4" hR="4" stAng="16200000" swAng="-5400000"/>
                <a:lnTo>
                  <a:pt x="0" y="31135"/>
                </a:lnTo>
                <a:arcTo wR="4" hR="4" stAng="10800000" swAng="-5400000"/>
                <a:lnTo>
                  <a:pt x="21596" y="3113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3560" bIns="435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AutoShape 6"/>
          <p:cNvSpPr/>
          <p:nvPr/>
        </p:nvSpPr>
        <p:spPr>
          <a:xfrm>
            <a:off x="0" y="0"/>
            <a:ext cx="7099200" cy="10234440"/>
          </a:xfrm>
          <a:custGeom>
            <a:avLst/>
            <a:gdLst>
              <a:gd name="textAreaLeft" fmla="*/ 360 w 7099200"/>
              <a:gd name="textAreaRight" fmla="*/ 7098840 w 709920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39">
                <a:moveTo>
                  <a:pt x="4" y="0"/>
                </a:moveTo>
                <a:arcTo wR="4" hR="4" stAng="16200000" swAng="-5400000"/>
                <a:lnTo>
                  <a:pt x="0" y="31135"/>
                </a:lnTo>
                <a:arcTo wR="4" hR="4" stAng="10800000" swAng="-5400000"/>
                <a:lnTo>
                  <a:pt x="21596" y="3113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3560" bIns="435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993240" y="777600"/>
            <a:ext cx="5100840" cy="38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709200" y="4861080"/>
            <a:ext cx="566892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07188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dt" idx="4"/>
          </p:nvPr>
        </p:nvSpPr>
        <p:spPr>
          <a:xfrm>
            <a:off x="4017960" y="-360"/>
            <a:ext cx="307008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ftr" idx="5"/>
          </p:nvPr>
        </p:nvSpPr>
        <p:spPr>
          <a:xfrm>
            <a:off x="-360" y="9720000"/>
            <a:ext cx="307188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 type="sldNum" idx="6"/>
          </p:nvPr>
        </p:nvSpPr>
        <p:spPr>
          <a:xfrm>
            <a:off x="4017960" y="9720000"/>
            <a:ext cx="307008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23720"/>
                <a:tab algn="l" pos="851040"/>
                <a:tab algn="l" pos="1278000"/>
                <a:tab algn="l" pos="1704960"/>
                <a:tab algn="l" pos="2130480"/>
                <a:tab algn="l" pos="2557440"/>
                <a:tab algn="l" pos="2984400"/>
                <a:tab algn="l" pos="3411360"/>
                <a:tab algn="l" pos="3836880"/>
                <a:tab algn="l" pos="4264200"/>
                <a:tab algn="l" pos="4691160"/>
                <a:tab algn="l" pos="5118120"/>
                <a:tab algn="l" pos="5543640"/>
                <a:tab algn="l" pos="5970600"/>
                <a:tab algn="l" pos="6397560"/>
                <a:tab algn="l" pos="6824520"/>
                <a:tab algn="l" pos="7251840"/>
                <a:tab algn="l" pos="7677000"/>
                <a:tab algn="l" pos="8104320"/>
                <a:tab algn="l" pos="85312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23720"/>
                <a:tab algn="l" pos="851040"/>
                <a:tab algn="l" pos="1278000"/>
                <a:tab algn="l" pos="1704960"/>
                <a:tab algn="l" pos="2130480"/>
                <a:tab algn="l" pos="2557440"/>
                <a:tab algn="l" pos="2984400"/>
                <a:tab algn="l" pos="3411360"/>
                <a:tab algn="l" pos="3836880"/>
                <a:tab algn="l" pos="4264200"/>
                <a:tab algn="l" pos="4691160"/>
                <a:tab algn="l" pos="5118120"/>
                <a:tab algn="l" pos="5543640"/>
                <a:tab algn="l" pos="5970600"/>
                <a:tab algn="l" pos="6397560"/>
                <a:tab algn="l" pos="6824520"/>
                <a:tab algn="l" pos="7251840"/>
                <a:tab algn="l" pos="7677000"/>
                <a:tab algn="l" pos="8104320"/>
                <a:tab algn="l" pos="85312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49F80D-F975-40EE-BD1B-7C1DC0C4BBB9}" type="slidenum">
              <a:rPr b="0" lang="fr-FR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2"/>
          <p:cNvSpPr/>
          <p:nvPr/>
        </p:nvSpPr>
        <p:spPr>
          <a:xfrm>
            <a:off x="4017960" y="9720360"/>
            <a:ext cx="307008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23720"/>
                <a:tab algn="l" pos="851040"/>
                <a:tab algn="l" pos="1278000"/>
                <a:tab algn="l" pos="1704960"/>
                <a:tab algn="l" pos="2130480"/>
                <a:tab algn="l" pos="2557440"/>
                <a:tab algn="l" pos="2984400"/>
                <a:tab algn="l" pos="3411360"/>
                <a:tab algn="l" pos="3836880"/>
                <a:tab algn="l" pos="4264200"/>
                <a:tab algn="l" pos="4691160"/>
                <a:tab algn="l" pos="5118120"/>
                <a:tab algn="l" pos="5543640"/>
                <a:tab algn="l" pos="5970600"/>
                <a:tab algn="l" pos="6397560"/>
                <a:tab algn="l" pos="6824520"/>
                <a:tab algn="l" pos="7251840"/>
                <a:tab algn="l" pos="7677000"/>
                <a:tab algn="l" pos="8104320"/>
                <a:tab algn="l" pos="85312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AE5767-A327-4393-8505-806C635F8BA1}" type="slidenum">
              <a:rPr b="0" lang="fr-FR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1"/>
          <p:cNvSpPr/>
          <p:nvPr/>
        </p:nvSpPr>
        <p:spPr>
          <a:xfrm>
            <a:off x="1039680" y="777960"/>
            <a:ext cx="5018400" cy="3835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3560" bIns="435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70720" cy="45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12"/>
          <p:cNvSpPr/>
          <p:nvPr/>
        </p:nvSpPr>
        <p:spPr>
          <a:xfrm>
            <a:off x="4017960" y="9720360"/>
            <a:ext cx="307008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23720"/>
                <a:tab algn="l" pos="851040"/>
                <a:tab algn="l" pos="1278000"/>
                <a:tab algn="l" pos="1704960"/>
                <a:tab algn="l" pos="2130480"/>
                <a:tab algn="l" pos="2557440"/>
                <a:tab algn="l" pos="2984400"/>
                <a:tab algn="l" pos="3411360"/>
                <a:tab algn="l" pos="3836880"/>
                <a:tab algn="l" pos="4264200"/>
                <a:tab algn="l" pos="4691160"/>
                <a:tab algn="l" pos="5118120"/>
                <a:tab algn="l" pos="5543640"/>
                <a:tab algn="l" pos="5970600"/>
                <a:tab algn="l" pos="6397560"/>
                <a:tab algn="l" pos="6824520"/>
                <a:tab algn="l" pos="7251840"/>
                <a:tab algn="l" pos="7677000"/>
                <a:tab algn="l" pos="8104320"/>
                <a:tab algn="l" pos="85312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55C020-ADB1-49CE-BF9B-603663BB1CC8}" type="slidenum">
              <a:rPr b="0" lang="fr-FR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Text Box 1"/>
          <p:cNvSpPr/>
          <p:nvPr/>
        </p:nvSpPr>
        <p:spPr>
          <a:xfrm>
            <a:off x="1039680" y="777960"/>
            <a:ext cx="5019840" cy="383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3560" bIns="435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70720" cy="45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2"/>
          <p:cNvSpPr/>
          <p:nvPr/>
        </p:nvSpPr>
        <p:spPr>
          <a:xfrm>
            <a:off x="4017960" y="9720360"/>
            <a:ext cx="307008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23720"/>
                <a:tab algn="l" pos="851040"/>
                <a:tab algn="l" pos="1278000"/>
                <a:tab algn="l" pos="1704960"/>
                <a:tab algn="l" pos="2130480"/>
                <a:tab algn="l" pos="2557440"/>
                <a:tab algn="l" pos="2984400"/>
                <a:tab algn="l" pos="3411360"/>
                <a:tab algn="l" pos="3836880"/>
                <a:tab algn="l" pos="4264200"/>
                <a:tab algn="l" pos="4691160"/>
                <a:tab algn="l" pos="5118120"/>
                <a:tab algn="l" pos="5543640"/>
                <a:tab algn="l" pos="5970600"/>
                <a:tab algn="l" pos="6397560"/>
                <a:tab algn="l" pos="6824520"/>
                <a:tab algn="l" pos="7251840"/>
                <a:tab algn="l" pos="7677000"/>
                <a:tab algn="l" pos="8104320"/>
                <a:tab algn="l" pos="85312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5D5C40-03D3-4D7D-8A02-45C66F531BF8}" type="slidenum">
              <a:rPr b="0" lang="fr-FR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Text Box 1"/>
          <p:cNvSpPr/>
          <p:nvPr/>
        </p:nvSpPr>
        <p:spPr>
          <a:xfrm>
            <a:off x="1039680" y="777960"/>
            <a:ext cx="5019840" cy="383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3560" bIns="435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70720" cy="45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12"/>
          <p:cNvSpPr/>
          <p:nvPr/>
        </p:nvSpPr>
        <p:spPr>
          <a:xfrm>
            <a:off x="4017960" y="9720360"/>
            <a:ext cx="307008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23720"/>
                <a:tab algn="l" pos="851040"/>
                <a:tab algn="l" pos="1278000"/>
                <a:tab algn="l" pos="1704960"/>
                <a:tab algn="l" pos="2130480"/>
                <a:tab algn="l" pos="2557440"/>
                <a:tab algn="l" pos="2984400"/>
                <a:tab algn="l" pos="3411360"/>
                <a:tab algn="l" pos="3836880"/>
                <a:tab algn="l" pos="4264200"/>
                <a:tab algn="l" pos="4691160"/>
                <a:tab algn="l" pos="5118120"/>
                <a:tab algn="l" pos="5543640"/>
                <a:tab algn="l" pos="5970600"/>
                <a:tab algn="l" pos="6397560"/>
                <a:tab algn="l" pos="6824520"/>
                <a:tab algn="l" pos="7251840"/>
                <a:tab algn="l" pos="7677000"/>
                <a:tab algn="l" pos="8104320"/>
                <a:tab algn="l" pos="85312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01445A-FEF6-4C08-ABBB-0061D022F34F}" type="slidenum">
              <a:rPr b="0" lang="fr-FR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992160" y="777960"/>
            <a:ext cx="5105520" cy="382896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70720" cy="45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12"/>
          <p:cNvSpPr/>
          <p:nvPr/>
        </p:nvSpPr>
        <p:spPr>
          <a:xfrm>
            <a:off x="4017960" y="9720360"/>
            <a:ext cx="307008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23720"/>
                <a:tab algn="l" pos="851040"/>
                <a:tab algn="l" pos="1278000"/>
                <a:tab algn="l" pos="1704960"/>
                <a:tab algn="l" pos="2130480"/>
                <a:tab algn="l" pos="2557440"/>
                <a:tab algn="l" pos="2984400"/>
                <a:tab algn="l" pos="3411360"/>
                <a:tab algn="l" pos="3836880"/>
                <a:tab algn="l" pos="4264200"/>
                <a:tab algn="l" pos="4691160"/>
                <a:tab algn="l" pos="5118120"/>
                <a:tab algn="l" pos="5543640"/>
                <a:tab algn="l" pos="5970600"/>
                <a:tab algn="l" pos="6397560"/>
                <a:tab algn="l" pos="6824520"/>
                <a:tab algn="l" pos="7251840"/>
                <a:tab algn="l" pos="7677000"/>
                <a:tab algn="l" pos="8104320"/>
                <a:tab algn="l" pos="85312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6F95E4-1B13-4988-B6AB-7BE8A0EB01E7}" type="slidenum">
              <a:rPr b="0" lang="fr-FR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992160" y="777960"/>
            <a:ext cx="5105520" cy="382896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70720" cy="45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2"/>
          <p:cNvSpPr/>
          <p:nvPr/>
        </p:nvSpPr>
        <p:spPr>
          <a:xfrm>
            <a:off x="4017960" y="9720360"/>
            <a:ext cx="307008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23720"/>
                <a:tab algn="l" pos="851040"/>
                <a:tab algn="l" pos="1278000"/>
                <a:tab algn="l" pos="1704960"/>
                <a:tab algn="l" pos="2130480"/>
                <a:tab algn="l" pos="2557440"/>
                <a:tab algn="l" pos="2984400"/>
                <a:tab algn="l" pos="3411360"/>
                <a:tab algn="l" pos="3836880"/>
                <a:tab algn="l" pos="4264200"/>
                <a:tab algn="l" pos="4691160"/>
                <a:tab algn="l" pos="5118120"/>
                <a:tab algn="l" pos="5543640"/>
                <a:tab algn="l" pos="5970600"/>
                <a:tab algn="l" pos="6397560"/>
                <a:tab algn="l" pos="6824520"/>
                <a:tab algn="l" pos="7251840"/>
                <a:tab algn="l" pos="7677000"/>
                <a:tab algn="l" pos="8104320"/>
                <a:tab algn="l" pos="85312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7E0C3C-BF5C-4D1D-9B6E-033F2E4F91C8}" type="slidenum">
              <a:rPr b="0" lang="fr-FR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1"/>
          <p:cNvSpPr/>
          <p:nvPr/>
        </p:nvSpPr>
        <p:spPr>
          <a:xfrm>
            <a:off x="1039680" y="777960"/>
            <a:ext cx="5016600" cy="383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3560" bIns="435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70720" cy="45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12"/>
          <p:cNvSpPr/>
          <p:nvPr/>
        </p:nvSpPr>
        <p:spPr>
          <a:xfrm>
            <a:off x="4017960" y="9720360"/>
            <a:ext cx="307008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23720"/>
                <a:tab algn="l" pos="851040"/>
                <a:tab algn="l" pos="1278000"/>
                <a:tab algn="l" pos="1704960"/>
                <a:tab algn="l" pos="2130480"/>
                <a:tab algn="l" pos="2557440"/>
                <a:tab algn="l" pos="2984400"/>
                <a:tab algn="l" pos="3411360"/>
                <a:tab algn="l" pos="3836880"/>
                <a:tab algn="l" pos="4264200"/>
                <a:tab algn="l" pos="4691160"/>
                <a:tab algn="l" pos="5118120"/>
                <a:tab algn="l" pos="5543640"/>
                <a:tab algn="l" pos="5970600"/>
                <a:tab algn="l" pos="6397560"/>
                <a:tab algn="l" pos="6824520"/>
                <a:tab algn="l" pos="7251840"/>
                <a:tab algn="l" pos="7677000"/>
                <a:tab algn="l" pos="8104320"/>
                <a:tab algn="l" pos="85312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9691CB-12C8-4230-BE4B-FF7C1FAF7D2C}" type="slidenum">
              <a:rPr b="0" lang="fr-FR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992160" y="777960"/>
            <a:ext cx="5103720" cy="382752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7072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6E095-DEC3-4F05-87FC-CD570C485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5976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5976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68600"/>
            <a:ext cx="905976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FD07C-A298-4A78-A85D-E9269F245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5976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080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5480" y="1767960"/>
            <a:ext cx="442080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68600"/>
            <a:ext cx="442080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5480" y="4368600"/>
            <a:ext cx="442080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EEB7D-8D0C-4205-AE44-64DCB7FD9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5976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708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6520" y="1767960"/>
            <a:ext cx="291708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29760" y="1767960"/>
            <a:ext cx="291708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68600"/>
            <a:ext cx="291708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6520" y="4368600"/>
            <a:ext cx="291708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29760" y="4368600"/>
            <a:ext cx="291708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EF41E-9EAD-4F16-ADB6-07E9349BF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5976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59760" cy="49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2AEAF-D764-4A35-B73A-9F7C131B9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5976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59760" cy="49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8E740-408D-4F9F-AF70-24FAD03CB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5976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0800" cy="49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5480" y="1767960"/>
            <a:ext cx="4420800" cy="49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4100D-0E9D-40C0-9031-E0C2A26FA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5976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C47B0-B856-46E0-827D-B26656591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5976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151A2-2EC4-49DF-AFDC-8EA3A9781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5976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080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5480" y="1767960"/>
            <a:ext cx="4420800" cy="49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68600"/>
            <a:ext cx="442080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5E7C2-5DDF-463A-A1E8-5AF382560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5976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0800" cy="49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5480" y="1767960"/>
            <a:ext cx="442080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5480" y="4368600"/>
            <a:ext cx="442080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16CEA-17D3-4085-A9C1-2A62FDB6B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5976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080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5480" y="1767960"/>
            <a:ext cx="442080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68600"/>
            <a:ext cx="9059760" cy="237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71A6F-BB13-4F62-9FDE-277EC54AD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5976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59760" cy="49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36760" cy="5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84560" cy="5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37120" cy="5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9D254C-5C61-4D8A-8F90-86B1BDCF6F2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1"/>
          <p:cNvSpPr/>
          <p:nvPr/>
        </p:nvSpPr>
        <p:spPr>
          <a:xfrm>
            <a:off x="1157400" y="2994120"/>
            <a:ext cx="6676920" cy="62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3600" spc="-1" strike="noStrike">
                <a:solidFill>
                  <a:srgbClr val="0000ff"/>
                </a:solidFill>
                <a:latin typeface="tahoma"/>
              </a:rPr>
              <a:t>PSSI des unités : outils et méthod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" name="Picture 3" descr=""/>
          <p:cNvPicPr/>
          <p:nvPr/>
        </p:nvPicPr>
        <p:blipFill>
          <a:blip r:embed="rId1"/>
          <a:stretch/>
        </p:blipFill>
        <p:spPr>
          <a:xfrm>
            <a:off x="7834320" y="5805360"/>
            <a:ext cx="1622520" cy="1079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C:\Users\mora_p\Desktop\upmc-logotype.gif"/>
          <p:cNvPicPr/>
          <p:nvPr/>
        </p:nvPicPr>
        <p:blipFill>
          <a:blip r:embed="rId2"/>
          <a:stretch/>
        </p:blipFill>
        <p:spPr>
          <a:xfrm>
            <a:off x="539640" y="5811840"/>
            <a:ext cx="3060720" cy="106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1"/>
          <p:cNvSpPr/>
          <p:nvPr/>
        </p:nvSpPr>
        <p:spPr>
          <a:xfrm>
            <a:off x="652320" y="539640"/>
            <a:ext cx="834732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0000ff"/>
                </a:solidFill>
                <a:latin typeface="Arial"/>
              </a:rPr>
              <a:t>Politique de Sécurité du Système d'Information (PSSI) :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0000ff"/>
                </a:solidFill>
                <a:latin typeface="Arial"/>
              </a:rPr>
              <a:t>protection de l'activité scientifiqu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Text Box 2"/>
          <p:cNvSpPr/>
          <p:nvPr/>
        </p:nvSpPr>
        <p:spPr>
          <a:xfrm>
            <a:off x="900000" y="1914480"/>
            <a:ext cx="9044280" cy="258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2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Protéger le patrimoine scientifique, disposer de ressources numériques fiabl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faire connaître à tous le contexte réglementaire et léga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comprendre les menaces, la facilité d'exploitation des vulnérabilités, les impacts possibl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savoir réagir en cas d'incident de sécurité pour minimiser les impac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pouvoir s'engager auprès de partenaires scientifiques ou industriel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2340000" y="1635120"/>
            <a:ext cx="504036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ff6633"/>
                </a:solidFill>
                <a:latin typeface="Arial"/>
              </a:rPr>
              <a:t>Pourquoi un projet de PSSI d'unité 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2160720" y="4859280"/>
            <a:ext cx="719928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ff6633"/>
                </a:solidFill>
                <a:latin typeface="Arial"/>
              </a:rPr>
              <a:t>Conditions de réussite d'un projet de PSSI d'unité 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179280" y="5219640"/>
            <a:ext cx="10191960" cy="183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2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Cerner les enjeux vitaux pour l'unité afin de décider des mesures de protection nécessair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Implication de tous : directeur d'unité, chercheurs porteurs des projets scientifiques de l'unité, personnel administratif et technique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AutoShape 1"/>
          <p:cNvSpPr/>
          <p:nvPr/>
        </p:nvSpPr>
        <p:spPr>
          <a:xfrm>
            <a:off x="34920" y="1440000"/>
            <a:ext cx="2700360" cy="1079280"/>
          </a:xfrm>
          <a:custGeom>
            <a:avLst/>
            <a:gdLst>
              <a:gd name="textAreaLeft" fmla="*/ 0 w 2700360"/>
              <a:gd name="textAreaRight" fmla="*/ 2700720 w 2700360"/>
              <a:gd name="textAreaTop" fmla="*/ 0 h 1079280"/>
              <a:gd name="textAreaBottom" fmla="*/ 1079640 h 107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Inventaire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(services vitaux,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données)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AutoShape 2"/>
          <p:cNvSpPr/>
          <p:nvPr/>
        </p:nvSpPr>
        <p:spPr>
          <a:xfrm>
            <a:off x="1979640" y="1440000"/>
            <a:ext cx="2519280" cy="1079280"/>
          </a:xfrm>
          <a:custGeom>
            <a:avLst/>
            <a:gdLst>
              <a:gd name="textAreaLeft" fmla="*/ 0 w 2519280"/>
              <a:gd name="textAreaRight" fmla="*/ 2519640 w 2519280"/>
              <a:gd name="textAreaTop" fmla="*/ 0 h 1079280"/>
              <a:gd name="textAreaBottom" fmla="*/ 1079640 h 107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2587680" y="1619280"/>
            <a:ext cx="13860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Analyse d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Risqu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AutoShape 4"/>
          <p:cNvSpPr/>
          <p:nvPr/>
        </p:nvSpPr>
        <p:spPr>
          <a:xfrm>
            <a:off x="3780000" y="1440000"/>
            <a:ext cx="2339640" cy="1079280"/>
          </a:xfrm>
          <a:custGeom>
            <a:avLst/>
            <a:gdLst>
              <a:gd name="textAreaLeft" fmla="*/ 0 w 2339640"/>
              <a:gd name="textAreaRight" fmla="*/ 2340000 w 2339640"/>
              <a:gd name="textAreaTop" fmla="*/ 0 h 1079280"/>
              <a:gd name="textAreaBottom" fmla="*/ 1079640 h 107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Choix des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mesur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AutoShape 5"/>
          <p:cNvSpPr/>
          <p:nvPr/>
        </p:nvSpPr>
        <p:spPr>
          <a:xfrm>
            <a:off x="5522760" y="1440000"/>
            <a:ext cx="2397240" cy="1079280"/>
          </a:xfrm>
          <a:custGeom>
            <a:avLst/>
            <a:gdLst>
              <a:gd name="textAreaLeft" fmla="*/ 0 w 2397240"/>
              <a:gd name="textAreaRight" fmla="*/ 2397600 w 2397240"/>
              <a:gd name="textAreaTop" fmla="*/ 0 h 1079280"/>
              <a:gd name="textAreaBottom" fmla="*/ 1079640 h 107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Rédaction de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la PSS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AutoShape 6"/>
          <p:cNvSpPr/>
          <p:nvPr/>
        </p:nvSpPr>
        <p:spPr>
          <a:xfrm>
            <a:off x="7199280" y="1440000"/>
            <a:ext cx="2519280" cy="1079280"/>
          </a:xfrm>
          <a:custGeom>
            <a:avLst/>
            <a:gdLst>
              <a:gd name="textAreaLeft" fmla="*/ 0 w 2519280"/>
              <a:gd name="textAreaRight" fmla="*/ 2519640 w 2519280"/>
              <a:gd name="textAreaTop" fmla="*/ 0 h 1079280"/>
              <a:gd name="textAreaBottom" fmla="*/ 1079640 h 107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338" y="0"/>
                </a:lnTo>
                <a:lnTo>
                  <a:pt x="21600" y="10800"/>
                </a:lnTo>
                <a:lnTo>
                  <a:pt x="16338" y="21600"/>
                </a:lnTo>
                <a:lnTo>
                  <a:pt x="0" y="21600"/>
                </a:lnTo>
                <a:lnTo>
                  <a:pt x="5262" y="10800"/>
                </a:lnTo>
                <a:close/>
              </a:path>
            </a:pathLst>
          </a:cu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Text Box 7"/>
          <p:cNvSpPr/>
          <p:nvPr/>
        </p:nvSpPr>
        <p:spPr>
          <a:xfrm>
            <a:off x="7826400" y="1619280"/>
            <a:ext cx="15904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Validation e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Conseil de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Lab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Text Box 8"/>
          <p:cNvSpPr/>
          <p:nvPr/>
        </p:nvSpPr>
        <p:spPr>
          <a:xfrm>
            <a:off x="2136600" y="372960"/>
            <a:ext cx="5270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0000ff"/>
                </a:solidFill>
                <a:latin typeface="Arial"/>
              </a:rPr>
              <a:t>Etapes d'un Projet de PSSI d'unit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Oval 9"/>
          <p:cNvSpPr/>
          <p:nvPr/>
        </p:nvSpPr>
        <p:spPr>
          <a:xfrm>
            <a:off x="303120" y="3395520"/>
            <a:ext cx="416160" cy="384480"/>
          </a:xfrm>
          <a:prstGeom prst="ellipse">
            <a:avLst/>
          </a:prstGeom>
          <a:gradFill rotWithShape="0">
            <a:gsLst>
              <a:gs pos="0">
                <a:srgbClr val="e6ff00"/>
              </a:gs>
              <a:gs pos="100000">
                <a:srgbClr val="ff333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Oval 10"/>
          <p:cNvSpPr/>
          <p:nvPr/>
        </p:nvSpPr>
        <p:spPr>
          <a:xfrm>
            <a:off x="360360" y="5759280"/>
            <a:ext cx="360360" cy="360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e6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Oval 11"/>
          <p:cNvSpPr/>
          <p:nvPr/>
        </p:nvSpPr>
        <p:spPr>
          <a:xfrm>
            <a:off x="360360" y="4140360"/>
            <a:ext cx="360360" cy="360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Oval 12"/>
          <p:cNvSpPr/>
          <p:nvPr/>
        </p:nvSpPr>
        <p:spPr>
          <a:xfrm>
            <a:off x="360360" y="5040360"/>
            <a:ext cx="360360" cy="360360"/>
          </a:xfrm>
          <a:prstGeom prst="ellipse">
            <a:avLst/>
          </a:prstGeom>
          <a:gradFill rotWithShape="0">
            <a:gsLst>
              <a:gs pos="0">
                <a:srgbClr val="0080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Oval 13"/>
          <p:cNvSpPr/>
          <p:nvPr/>
        </p:nvSpPr>
        <p:spPr>
          <a:xfrm>
            <a:off x="360360" y="6480000"/>
            <a:ext cx="360360" cy="36036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8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Text Box 14"/>
          <p:cNvSpPr/>
          <p:nvPr/>
        </p:nvSpPr>
        <p:spPr>
          <a:xfrm>
            <a:off x="1079640" y="3357720"/>
            <a:ext cx="873756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Nomination du CSSI par le directeur et constitution du groupe projet pour réalisation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de l'inventaire des services vitaux, bases de données, fichiers nominatifs, etc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Text Box 15"/>
          <p:cNvSpPr/>
          <p:nvPr/>
        </p:nvSpPr>
        <p:spPr>
          <a:xfrm>
            <a:off x="1079640" y="4140360"/>
            <a:ext cx="87199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Analyse de risques : formation des CSSI aux méthodes et outils de la PSSI proposée pa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le CNRS et l'UPM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Text Box 16"/>
          <p:cNvSpPr/>
          <p:nvPr/>
        </p:nvSpPr>
        <p:spPr>
          <a:xfrm>
            <a:off x="1004760" y="4873680"/>
            <a:ext cx="88315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Appréciation des risques : résultats de l'analyse présentée au directeur par le CSSI e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choix de mesures (ISO 27002) pour sécuriser le système d'information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Text Box 17"/>
          <p:cNvSpPr/>
          <p:nvPr/>
        </p:nvSpPr>
        <p:spPr>
          <a:xfrm>
            <a:off x="1079640" y="5697360"/>
            <a:ext cx="8169120" cy="6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Rédaction de la PSSI incluant les mesures choisies et détaillant en annexe le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mesures techniques de protection et les procédures mises en place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Text Box 18"/>
          <p:cNvSpPr/>
          <p:nvPr/>
        </p:nvSpPr>
        <p:spPr>
          <a:xfrm>
            <a:off x="1054080" y="6480000"/>
            <a:ext cx="8126280" cy="6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Validation de la PSSI en conseil de laboratoire pour diffusion à l'ensemble de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personnel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AutoShape 1"/>
          <p:cNvSpPr/>
          <p:nvPr/>
        </p:nvSpPr>
        <p:spPr>
          <a:xfrm>
            <a:off x="179280" y="1800360"/>
            <a:ext cx="2880000" cy="1079280"/>
          </a:xfrm>
          <a:custGeom>
            <a:avLst/>
            <a:gdLst>
              <a:gd name="textAreaLeft" fmla="*/ 0 w 2880000"/>
              <a:gd name="textAreaRight" fmla="*/ 2880360 w 2880000"/>
              <a:gd name="textAreaTop" fmla="*/ 0 h 1079280"/>
              <a:gd name="textAreaBottom" fmla="*/ 1079640 h 107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nventair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(services vitaux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données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AutoShape 2"/>
          <p:cNvSpPr/>
          <p:nvPr/>
        </p:nvSpPr>
        <p:spPr>
          <a:xfrm>
            <a:off x="2146320" y="1800360"/>
            <a:ext cx="3060720" cy="1079280"/>
          </a:xfrm>
          <a:custGeom>
            <a:avLst/>
            <a:gdLst>
              <a:gd name="textAreaLeft" fmla="*/ 0 w 3060720"/>
              <a:gd name="textAreaRight" fmla="*/ 3061080 w 3060720"/>
              <a:gd name="textAreaTop" fmla="*/ 0 h 1079280"/>
              <a:gd name="textAreaBottom" fmla="*/ 1079640 h 107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Text Box 3"/>
          <p:cNvSpPr/>
          <p:nvPr/>
        </p:nvSpPr>
        <p:spPr>
          <a:xfrm>
            <a:off x="2851200" y="1979640"/>
            <a:ext cx="173196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Recensemen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des mesur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de protec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4"/>
          <p:cNvSpPr/>
          <p:nvPr/>
        </p:nvSpPr>
        <p:spPr>
          <a:xfrm>
            <a:off x="4319640" y="1800360"/>
            <a:ext cx="3060720" cy="1079280"/>
          </a:xfrm>
          <a:custGeom>
            <a:avLst/>
            <a:gdLst>
              <a:gd name="textAreaLeft" fmla="*/ 0 w 3060720"/>
              <a:gd name="textAreaRight" fmla="*/ 3061080 w 3060720"/>
              <a:gd name="textAreaTop" fmla="*/ 0 h 1079280"/>
              <a:gd name="textAreaBottom" fmla="*/ 1079640 h 107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Elaborati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d'un PCA/PR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AutoShape 5"/>
          <p:cNvSpPr/>
          <p:nvPr/>
        </p:nvSpPr>
        <p:spPr>
          <a:xfrm>
            <a:off x="6480000" y="1800360"/>
            <a:ext cx="2880000" cy="1079280"/>
          </a:xfrm>
          <a:custGeom>
            <a:avLst/>
            <a:gdLst>
              <a:gd name="textAreaLeft" fmla="*/ 0 w 2880000"/>
              <a:gd name="textAreaRight" fmla="*/ 2880360 w 2880000"/>
              <a:gd name="textAreaTop" fmla="*/ 0 h 1079280"/>
              <a:gd name="textAreaBottom" fmla="*/ 1079640 h 107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7229520" y="1979640"/>
            <a:ext cx="17762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Diffusion d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textes officiel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 Box 7"/>
          <p:cNvSpPr/>
          <p:nvPr/>
        </p:nvSpPr>
        <p:spPr>
          <a:xfrm>
            <a:off x="1079640" y="360360"/>
            <a:ext cx="784224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2323dc"/>
                </a:solidFill>
                <a:latin typeface="Arial"/>
              </a:rPr>
              <a:t>Protection du système d'information d'une unité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2323dc"/>
                </a:solidFill>
                <a:latin typeface="Arial"/>
              </a:rPr>
              <a:t>(version simplifiée)</a:t>
            </a:r>
            <a:r>
              <a:rPr b="1" lang="ar-SA" sz="2400" spc="-1" strike="noStrike">
                <a:solidFill>
                  <a:srgbClr val="2323dc"/>
                </a:solidFill>
                <a:latin typeface="Arial"/>
                <a:ea typeface="Arial"/>
              </a:rPr>
              <a:t>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Oval 8"/>
          <p:cNvSpPr/>
          <p:nvPr/>
        </p:nvSpPr>
        <p:spPr>
          <a:xfrm>
            <a:off x="303120" y="3395520"/>
            <a:ext cx="416160" cy="384480"/>
          </a:xfrm>
          <a:prstGeom prst="ellipse">
            <a:avLst/>
          </a:prstGeom>
          <a:gradFill rotWithShape="0">
            <a:gsLst>
              <a:gs pos="0">
                <a:srgbClr val="e6ff00"/>
              </a:gs>
              <a:gs pos="100000">
                <a:srgbClr val="ff333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Oval 9"/>
          <p:cNvSpPr/>
          <p:nvPr/>
        </p:nvSpPr>
        <p:spPr>
          <a:xfrm>
            <a:off x="360360" y="4140360"/>
            <a:ext cx="360360" cy="360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Oval 10"/>
          <p:cNvSpPr/>
          <p:nvPr/>
        </p:nvSpPr>
        <p:spPr>
          <a:xfrm>
            <a:off x="360360" y="5400720"/>
            <a:ext cx="360360" cy="360360"/>
          </a:xfrm>
          <a:prstGeom prst="ellipse">
            <a:avLst/>
          </a:prstGeom>
          <a:gradFill rotWithShape="0">
            <a:gsLst>
              <a:gs pos="0">
                <a:srgbClr val="0080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Oval 11"/>
          <p:cNvSpPr/>
          <p:nvPr/>
        </p:nvSpPr>
        <p:spPr>
          <a:xfrm>
            <a:off x="360360" y="5940360"/>
            <a:ext cx="360360" cy="36036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8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Text Box 12"/>
          <p:cNvSpPr/>
          <p:nvPr/>
        </p:nvSpPr>
        <p:spPr>
          <a:xfrm>
            <a:off x="1079640" y="3357720"/>
            <a:ext cx="899316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Nomination du CSSI (ou correspondant) par le directeur pour réalisation de l'inventaire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des services vitaux, bases de données, fichiers nominatifs, etc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13"/>
          <p:cNvSpPr/>
          <p:nvPr/>
        </p:nvSpPr>
        <p:spPr>
          <a:xfrm>
            <a:off x="1079640" y="4105440"/>
            <a:ext cx="8816760" cy="11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Recensement par le CSSI des mesures de sécurisation déjà en place dans l'unité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et vérification de l'existence des mesures de protection essentielles issues des PSS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des établissements de tutelle ==&gt; choix de nouvelles mesures si nécessaire, validé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par le directeu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Text Box 14"/>
          <p:cNvSpPr/>
          <p:nvPr/>
        </p:nvSpPr>
        <p:spPr>
          <a:xfrm>
            <a:off x="1079640" y="5878440"/>
            <a:ext cx="785340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Diffusion à l'ensemble des personnels  des nouvelles mesures de prot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issues des PSSI des tutelles, diffusion et affichage des chartes des tutell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15"/>
          <p:cNvSpPr/>
          <p:nvPr/>
        </p:nvSpPr>
        <p:spPr>
          <a:xfrm>
            <a:off x="1079640" y="5400720"/>
            <a:ext cx="848988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Rédaction d'un PCA/PRA pour les services vitaux (soutien UPMC/CNRS possible)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1"/>
          <p:cNvSpPr/>
          <p:nvPr/>
        </p:nvSpPr>
        <p:spPr>
          <a:xfrm>
            <a:off x="2519280" y="539640"/>
            <a:ext cx="413712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200" spc="-1" strike="noStrike">
                <a:solidFill>
                  <a:srgbClr val="0000ff"/>
                </a:solidFill>
                <a:latin typeface="Arial"/>
              </a:rPr>
              <a:t>Analyse de risques : méthod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Text Box 2"/>
          <p:cNvSpPr/>
          <p:nvPr/>
        </p:nvSpPr>
        <p:spPr>
          <a:xfrm>
            <a:off x="900000" y="1260360"/>
            <a:ext cx="7301160" cy="18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ff6633"/>
                </a:solidFill>
                <a:latin typeface="Arial"/>
              </a:rPr>
              <a:t>Se poser les bonnes questions 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Quels sont les enjeux du laboratoire 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Quelles menaces peuvent avoir un impact sur ces enjeux 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Quelles vulnérabilités peuvent être exploitées par une menace 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Quels objectifs de sécurité veut-on/peut-on mettre en place 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Quelles mesures de sécurité pour réduire le risque 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Text Box 3"/>
          <p:cNvSpPr/>
          <p:nvPr/>
        </p:nvSpPr>
        <p:spPr>
          <a:xfrm>
            <a:off x="914400" y="3254400"/>
            <a:ext cx="286560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ff6633"/>
                </a:solidFill>
                <a:latin typeface="Arial"/>
              </a:rPr>
              <a:t>Sélectionner les enjeux 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412920" y="3645000"/>
            <a:ext cx="8947080" cy="10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Données essentielles et leur typologie : administratives, contrats, projets,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Services vitaux : messagerie, base de données, serveur de fichiers,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Fixer le périmètre de la PSSI : commencer restreint pour élargir si nécessai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360360" y="4680000"/>
            <a:ext cx="972036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ff6633"/>
                </a:solidFill>
                <a:latin typeface="Arial"/>
              </a:rPr>
              <a:t>Etudier menaces et vulnérabilités en fonction des enjeux 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Retenir les menaces vraisemblables pour lesquelles aucune mesure n'est en pl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Etablir des priorités entre les différents risques à couvrir en fonction des impac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6"/>
          <p:cNvSpPr/>
          <p:nvPr/>
        </p:nvSpPr>
        <p:spPr>
          <a:xfrm>
            <a:off x="539640" y="5910120"/>
            <a:ext cx="902196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ff6633"/>
                </a:solidFill>
                <a:latin typeface="Arial"/>
              </a:rPr>
              <a:t>Choisir  les objectifs et les mesures de sécurité (ISO 2700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Utiliser l'outil d'analyse de risques et s'inspirer des PSSI des tutelles pour établir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des mesures de protection appropriées à l'unit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1"/>
          <p:cNvSpPr/>
          <p:nvPr/>
        </p:nvSpPr>
        <p:spPr>
          <a:xfrm>
            <a:off x="1865160" y="360360"/>
            <a:ext cx="7691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0000ff"/>
                </a:solidFill>
                <a:latin typeface="Arial"/>
              </a:rPr>
              <a:t>En pratique : distinguer actifs primordiaux et actifs de souti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2"/>
          <p:cNvSpPr/>
          <p:nvPr/>
        </p:nvSpPr>
        <p:spPr>
          <a:xfrm>
            <a:off x="1079640" y="1440000"/>
            <a:ext cx="24019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ff6633"/>
                </a:solidFill>
                <a:latin typeface="Arial"/>
              </a:rPr>
              <a:t>Actifs primordiaux 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720720" y="1979640"/>
            <a:ext cx="8640720" cy="16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Ce sont les données essentielles du laboratoire, celles dont la perte (vol ou destruction) aurait un impact direct pour le laboratoire (pertes financières, image de marque,conséquences juridiques …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es chercheurs et le directeur d'unité ont connaissance de ces données, leur rôle est d'en informer le CSS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1079640" y="3794040"/>
            <a:ext cx="222696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ff6633"/>
                </a:solidFill>
                <a:latin typeface="Arial"/>
              </a:rPr>
              <a:t>Actifs de soutien 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612720" y="4319640"/>
            <a:ext cx="9134640" cy="21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Ce sont les ressources informatiques hébergeant les services et les donné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de l'unit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es administrateurs de ces ressources doivent connaître les contraintes 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disponibilité des services et les enjeux de confidentialité des données pour l'unit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e rôle de la direction est de valider ces contraintes et ces enjeux en y affectan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es moyens nécessaires le cas éché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1"/>
          <p:cNvSpPr/>
          <p:nvPr/>
        </p:nvSpPr>
        <p:spPr>
          <a:xfrm>
            <a:off x="179280" y="360360"/>
            <a:ext cx="9136080" cy="9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200" spc="-1" strike="noStrike">
                <a:solidFill>
                  <a:srgbClr val="0000ff"/>
                </a:solidFill>
                <a:latin typeface="Arial"/>
              </a:rPr>
              <a:t>Objectifs de sécurité vs mesures existantes :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200" spc="-1" strike="noStrike">
                <a:solidFill>
                  <a:srgbClr val="0000ff"/>
                </a:solidFill>
                <a:latin typeface="Arial"/>
              </a:rPr>
              <a:t>Commencer avec les systèmes vitaux administrés par le CSSI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2"/>
          <p:cNvSpPr/>
          <p:nvPr/>
        </p:nvSpPr>
        <p:spPr>
          <a:xfrm>
            <a:off x="231840" y="1440000"/>
            <a:ext cx="9753480" cy="57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ff6633"/>
                </a:solidFill>
                <a:latin typeface="Arial"/>
              </a:rPr>
              <a:t>Disponibilité ?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Existence d'un PRA ou d'une procédure de restauration validée 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Contrat de maintenance 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ff6633"/>
                </a:solidFill>
                <a:latin typeface="Arial"/>
              </a:rPr>
              <a:t>Confidentialité des données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800" spc="-1" strike="noStrike">
                <a:solidFill>
                  <a:srgbClr val="ff6633"/>
                </a:solidFill>
                <a:latin typeface="Arial"/>
              </a:rPr>
              <a:t> ?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 authentification et autorisation, chiffrement de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échanges serveur/client, chiffrement des  données, déclarations CNIL ? RGS 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ff6633"/>
                </a:solidFill>
                <a:latin typeface="Arial"/>
              </a:rPr>
              <a:t>Intégrité ?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Existence d'un mécanisme permettant de vérifier l'intégrit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des données 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ff6633"/>
                </a:solidFill>
                <a:latin typeface="Arial"/>
              </a:rPr>
              <a:t>Journalisation ?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journalisation des accès au service conforme aux politiques d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gestion de journaux informatiques des tutelles 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1"/>
          <p:cNvSpPr/>
          <p:nvPr/>
        </p:nvSpPr>
        <p:spPr>
          <a:xfrm>
            <a:off x="1979640" y="1079640"/>
            <a:ext cx="559908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800" spc="-1" strike="noStrike">
                <a:solidFill>
                  <a:srgbClr val="0000ff"/>
                </a:solidFill>
                <a:latin typeface="Arial"/>
              </a:rPr>
              <a:t>Elaboration de la PSSI de l'unit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Text Box 2"/>
          <p:cNvSpPr/>
          <p:nvPr/>
        </p:nvSpPr>
        <p:spPr>
          <a:xfrm>
            <a:off x="485640" y="1979640"/>
            <a:ext cx="9234720" cy="52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ff6633"/>
                </a:solidFill>
                <a:latin typeface="Arial"/>
              </a:rPr>
              <a:t>Appréciation des risques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- Présenter une synthèse de l'analyse de risques au directeu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d'unit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- Faire valider les mesures préconisé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ff6633"/>
                </a:solidFill>
                <a:latin typeface="Arial"/>
              </a:rPr>
              <a:t>Calendrier de mise en oeuvre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Lister l'ensemble des documents techniques à rédiger pou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la mise en oeuvre des mesu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ff6633"/>
                </a:solidFill>
                <a:latin typeface="Arial"/>
              </a:rPr>
              <a:t>Elaborer le document de PSSI pour présentatio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ff6633"/>
                </a:solidFill>
                <a:latin typeface="Arial"/>
              </a:rPr>
              <a:t>au conseil de labo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utiliser le plan type de PSSI d'unit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Valerie Givaudan</dc:creator>
  <dc:description/>
  <dc:language>en-US</dc:language>
  <cp:lastModifiedBy>Paulo mora</cp:lastModifiedBy>
  <cp:lastPrinted>2011-09-28T09:51:20Z</cp:lastPrinted>
  <dcterms:modified xsi:type="dcterms:W3CDTF">2011-09-30T14:57:19Z</dcterms:modified>
  <cp:revision>5</cp:revision>
  <dc:subject/>
  <dc:title>Présentation PowerPoint</dc:title>
</cp:coreProperties>
</file>